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6EA6-1FBD-4CBC-ABA8-9397C283E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C646-AF0F-45BA-99FE-86D6D3EE6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B994-39C3-4279-9F7F-F87AB02FA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F12E-E852-4CB8-B831-6E3A39FDC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22EE-8318-4608-A6CD-0E5BD807A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F651-F819-47BD-AF58-B55CF7288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9AEE-9FF8-4F1E-8367-D4153F9E7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7B2C-0B0A-4935-A80D-22FF4991A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8E1C-21B8-4CEE-97A1-2A8788C14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4C68-C71B-4B8A-89FA-DE90C7BA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63CA-713C-41FB-842F-480DCF91B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71B7-BD21-4675-A3E7-451F42B6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618CB-A002-4F49-8934-402AB9E74979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374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600" spc="-1" strike="noStrike">
                <a:solidFill>
                  <a:srgbClr val="000000"/>
                </a:solidFill>
                <a:latin typeface="Calibri"/>
              </a:rPr>
              <a:t>Forced Migratio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508280"/>
            <a:ext cx="6400800" cy="113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898989"/>
                </a:solidFill>
                <a:latin typeface="Calibri"/>
              </a:rPr>
              <a:t>Case Study: </a:t>
            </a:r>
            <a:r>
              <a:rPr b="1" i="1" lang="en-US" sz="3200" spc="-1" strike="noStrike">
                <a:solidFill>
                  <a:srgbClr val="898989"/>
                </a:solidFill>
                <a:latin typeface="Calibri"/>
              </a:rPr>
              <a:t>The Kosovo Albanians: March 199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The Begi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ass migration of a large percentage of the Albanian population of Kosovo occurred in the first half of 1999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osovo is part of the former country of Yugoslavia, which after many bloody civil wars during the last decade has now split into a number of countries (Bosnia-Herzegovina, Slovenia, Macedonia, Croatia and Yugoslavia itself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osovo is a province in Southern Yugoslavia, which borders Albania and has a large proportion of its population who have come from that countr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Ethnic Clean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Yugoslavia's main population are Serbian, and they began to persecute the Kosovo Albanians, in an attempt to try to make them leave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This exercise went on unchecked until March 31st 1998, when the United Nations passed resolution 1160, which condemned the excessive force used by Serbian police against Kosovan civilians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Unfortunately the atrocities continued, with reports of "ethnic cleansing" occurring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The Pl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led to the UN Security Council putting in place a military plan to force the Serbs out of Kosovo, whilst allowing the Albanians back i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 the tension rose between the Yugoslavian president Slobodan Milosevic and the United Nations, people literally flooded out of Kosovo, fleeing from the killing and destruction brought by the Serb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The Mov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ver 850,000 people were forced to migrate, most of them ending up in huge refugee camps in neighbouring Albania, Macedonia and Montenegro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 the UN military offensive began on March 24th 1999, it was estimated that over 4,000 refugees were crossing the border from Kosovo every hou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The Eff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59984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lthough the conflicts and deep-rooted hatred have not been fully resolved, the UNHCR announced that by the middle of August 1999, 95% of the Kosovan refugees had returned to their former homes, although many had found them burned down and destroyed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Most Famous Forced Mig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ews forced to move from Germany, Poland and other European countries by Hitler's Nazi's before and during World War 2. (Genocide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ians forced to move out of Uganda by Idi Amin in the 1970's. (Threats of genocide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fricans forced to travel in cramped conditions on boats across the Atlantic to the United States in the 1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early 1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entury. (The slave trade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arly 2 million Vietnamese have migrated to Hong Kong since the end if the Vietnam War in 1975. (Fear of persecution by Communist rebels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Most Famous Forced Mig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e population of Monserrat have been forced to move to the North of the island or migrate due to volcanic eruptions, which have now gone on for a number of years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Mass migrations by people in Ethiopia during the mid-1980's to look for water and food. (Drought meant that they had neither food or water)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e original population of Australia were prisoners from the United Kingdom, who were forced to go there, and usually stayed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04:35:45Z</dcterms:created>
  <dc:creator>Dell_02</dc:creator>
  <dc:description/>
  <dc:language>en-US</dc:language>
  <cp:lastModifiedBy>Dell_02</cp:lastModifiedBy>
  <dcterms:modified xsi:type="dcterms:W3CDTF">2011-01-25T04:45:49Z</dcterms:modified>
  <cp:revision>2</cp:revision>
  <dc:subject/>
  <dc:title>Forced Migration</dc:title>
</cp:coreProperties>
</file>